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1A057-51B7-49DE-A8A3-1CD13EDFB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A5C4-1BF3-41B9-B97D-0B17E6290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4C43B-89DA-420F-97C3-DE30537FE6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0A66-FB3F-419B-94CE-E9AB1C2312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6F358-44DE-46FE-980C-D88AC385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7B14-8823-48D4-9722-58A2BB74C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39585-955F-4F68-A0CD-16040BC7E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1A1CB-21BC-42FC-96FD-217DAAD03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F53E1-83EA-406C-A5C1-1EC87A8BC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8E61-F5EB-4759-8555-2F4769AEE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42132-2631-435E-A6FA-F7863A00A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BC8BA-4D5A-44F3-B785-432FE69A1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D6DA-3737-49EB-B4E5-2389DC3043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-360" y="1447920"/>
            <a:ext cx="8839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11680" indent="-2116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ighlight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BC candidate RFPs and RFCs discussed, near term actions identifi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BC Security requirements discussed, direction established for near term 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04080" indent="-214560">
              <a:lnSpc>
                <a:spcPct val="15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didate RFPs discuss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CA Overview pres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BC Workshop Discussion – provided revised call for participation materials, OMG distributed noti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oint Session with PIM and PSM for SWRadio Components FTF – organizational meet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ceived overview of Minimum CORBA Update RF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801000" indent="-152280">
              <a:lnSpc>
                <a:spcPct val="15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oadmap upd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5 Jun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bc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bc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1920" y="152280"/>
            <a:ext cx="41097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B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D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-360" y="1371600"/>
            <a:ext cx="88390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iverables from this Mee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1 SBC Agen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2 Software Radio Security Requirements informational brie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3 Software Radio Security Recommend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4 Digital IF Candidate RFP over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5 Security Reference Architec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33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00"/>
                </a:solidFill>
                <a:latin typeface="Arial"/>
                <a:ea typeface="Arial"/>
              </a:rPr>
              <a:t>sbc/2004-06-06 SBC 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uture Deliverables (In-Process)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curity Draft RFP(s) presentations (Mont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840" indent="-160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ey management, crypto algorithm selection and management, secure audit, transmission secur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Services Draft RFP(s) discussion/presentation (Montrea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843840" indent="-1602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gital IF, Smart Antenn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BC Roadm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Generate Response to CORBA Control Systems RF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enda Items for the Montreal Meeting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view, update and working session for abo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ulti SIG/TF Security needs mee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M &amp; PSM for SWRadio informational presentations to TF/SIGs (Spa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 future technology inser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570240" indent="-2340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scuss SBC Common Services RFI respon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648320" y="1752480"/>
            <a:ext cx="3962160" cy="41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576360" indent="-23652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33520" y="152280"/>
            <a:ext cx="3886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4572000" y="228240"/>
            <a:ext cx="0" cy="11430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380880" y="1371600"/>
            <a:ext cx="830592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75840" y="6400800"/>
            <a:ext cx="3020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MG TC Status Report , Version 1.1a, omg/2000-12-03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152280"/>
            <a:ext cx="457200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C Meeting Date: 25 Jun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eporting chair: Richards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page (URL): sbc.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Group email: sbc@omg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27880" y="228600"/>
            <a:ext cx="4109760" cy="10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 Bas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cations DTF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2T15:58:21Z</dcterms:created>
  <dc:creator/>
  <dc:description/>
  <dc:language>en-US</dc:language>
  <cp:lastModifiedBy>KEVIN RICHARDSON</cp:lastModifiedBy>
  <dcterms:modified xsi:type="dcterms:W3CDTF">2004-06-25T12:36:14Z</dcterms:modified>
  <cp:revision>101</cp:revision>
  <dc:subject/>
  <dc:title> </dc:title>
</cp:coreProperties>
</file>